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695-0BDE-4983-B1FE-97487BF0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207-7EEA-44AA-AB38-30CC25F4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323-227E-48AE-8F6A-BE96825A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9CF-4120-4C52-B94E-88669729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7BE-82C0-4B87-B570-2D9E561B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942-4E64-49B3-AD1F-8574C512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95D-B081-4740-816C-FF1BB8A1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B85-DA93-4F11-87EF-B24503AA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7FC-BFEA-493B-BC93-3A621217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8A1-49ED-46C8-9937-7C53A1D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CD8-AE99-4F25-BB1B-87A3236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2F0-B35D-4347-87D7-06B07AB6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FDFA-5C35-43B1-8C47-C3F59CA5A2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4B Fitting trend lines and 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trend line is a straight line that is used to fit an entire time series and can be used to predict future valu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calculate the equation of a trend line using either the 3-median or least-squares regression method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cannot use these techniques on cyclical or seasonal trend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lways plot the time-series data, so that the type of pattern or trend can be easily see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n association table is often required to convert period labels to numbers, so that a straight line equation can be calculat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: Ex 4B, 1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B, 3, 4, 7, 8, 10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9:52:11Z</dcterms:created>
  <dc:creator>08843474</dc:creator>
  <dc:description/>
  <dc:language>en-US</dc:language>
  <cp:lastModifiedBy>08843474</cp:lastModifiedBy>
  <dcterms:modified xsi:type="dcterms:W3CDTF">2011-03-19T22:21:51Z</dcterms:modified>
  <cp:revision>2</cp:revision>
  <dc:subject/>
  <dc:title>Time series</dc:title>
</cp:coreProperties>
</file>